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D37-66E2-48DE-9D7E-3B3075FA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009-54F5-4C7D-A593-E6850393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CA7-C500-43BB-A5F6-A3AFBBC6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27E-0420-4DA4-A268-D0D3F381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ED9-D340-4278-969A-D68BC8AD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680-0A03-4CAB-AE20-003BB33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1E1C-7E49-4967-9510-D73388B6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80E-58B5-410E-9D46-7A86CB44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91C-3B38-477B-87AC-705B6176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CD7-7D15-46E9-A4B3-EF8A10EF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A49-BBED-40E2-AE43-845ADB3D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A67-E403-4AB7-917D-BC33F245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42CC-1946-486A-9BD5-1D132D256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76212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600 EUI System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15364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1360" y="10526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080" y="914400"/>
            <a:ext cx="1158840" cy="6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D3600 ADEM III Service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200" y="2506680"/>
            <a:ext cx="39402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EM III programmed using Cat Electronic Technician (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171-44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-II adapter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X-1414 connecto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791320" y="4114800"/>
          <a:ext cx="289548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4114800"/>
                    <a:ext cx="289548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848720" y="2743200"/>
          <a:ext cx="884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2743200"/>
                    <a:ext cx="88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72200" y="1981080"/>
          <a:ext cx="1641600" cy="21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1981080"/>
                    <a:ext cx="16416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088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5:02:31Z</dcterms:created>
  <dc:creator>haarde</dc:creator>
  <dc:description/>
  <dc:language>en-US</dc:language>
  <cp:lastModifiedBy>haarde</cp:lastModifiedBy>
  <dcterms:modified xsi:type="dcterms:W3CDTF">2008-01-03T19:41:17Z</dcterms:modified>
  <cp:revision>2</cp:revision>
  <dc:subject/>
  <dc:title>PowerPoint Presentation</dc:title>
</cp:coreProperties>
</file>